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0665-32E3-4334-AA8B-4F98364EC7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D15A-8492-4065-AA88-F5F5472EA90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3EBA-8B2C-4C17-939F-4AAFEC3862A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33240"/>
                <a:tab algn="l" pos="1268280"/>
                <a:tab algn="l" pos="1903320"/>
                <a:tab algn="l" pos="2538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31D4-986A-4249-B328-69CD6295A25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66F-FF20-4E47-B647-73301DF4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798F-A035-471E-84E2-B8AE5410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3F79-85CB-451E-B282-A883FE42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D38-A8C3-4E2E-8E2C-A5E6F00B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F419-47D2-45F1-876F-E7F120EA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4A2F-66A0-4639-B565-0EA7383A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F9D0-5DEE-4B98-A82A-87D8E625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B738-74B7-433F-97B9-9C2EE944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0DA1-36A1-4AF7-8788-4C4057D3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7DC0-1A9A-4355-BFC3-BC9DCAC9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9BA8-B7F7-4362-A3C4-1A75C2AB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78F-AF8A-4E4D-B9C6-3D7D9431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428A-B109-4B9C-80C5-CC282D83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2A6B-7A3C-484D-9297-505061F9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273A-7E27-49AF-BEF3-7F7362BD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766C-F300-498C-8562-49D225A6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E7EB-B4EF-4406-B42F-03EA4ED2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62CF6-6FCD-4108-B7AC-AEE40FDF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CAB25-3316-45E6-9D08-1E4D77CB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CB85D-5B68-4173-9CCB-3BA1B95D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8898E-29D8-43A7-83CF-7B062BA9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885FB-423F-4662-8BC5-494D9E67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50D-0B40-4DFF-B6D1-992C77FF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D7A67-9BD7-4AA1-B7CC-501B9275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A47F9-3BBB-4869-AF76-C288FCED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B699E-BA5B-433C-AE55-854120B6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006D3-11CE-45E9-8AF9-489319E3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E29CF-ED6D-4001-9ED7-512347FA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D2967-CA4F-4BAF-9EC0-7403F595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81688-6688-493B-BA9B-C66C62B6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35609-2BCD-4188-AAD6-3E22F6B6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83F60-D001-4251-B103-AE8C0441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020AB-3DDA-43FF-A761-B4A8B2B9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2EE8-3ECB-4ECF-BE5B-6375036E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C595A-E060-40BD-AAE8-595DA44E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C41DB-F296-474C-8BFA-A941CB5E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E25C8-FB65-432C-999C-7289F067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FF030-C59A-468D-9035-C84BDD8E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BE34D-ADCD-4419-8674-7A94170B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BA239-1B6B-4875-8DB6-6EDCCA3B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83F2D-6AA8-4078-8820-339951CE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45EE9-FA77-4FC1-84E5-00E6311E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41166-9A67-431D-BE22-54273FA4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11212-C52D-45E2-B24A-645422A3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549-71DC-4224-ACC4-3DA910C2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4EB4A-3BFA-492A-B304-92B87D36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41E48-8A15-44DF-9C7C-EEFDDFE1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66F2A-A0BD-4256-9717-20DBFACA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4DDD1-CCC1-42DC-9C67-4C3794F6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BEBB0-1CA1-4138-9BCA-002D46E1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42135-8105-4104-A171-F24CE7F0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15F41-0C7C-4E02-94EF-58243461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FDF59-76A2-40EA-8B51-C3A3092E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3EE2A-EE9F-4117-A24F-341FC018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9C68C-EDCB-4098-9BCA-E1B7EEEA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BCF-572C-4174-9796-AA47EB5C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236E3-0F7E-4613-B624-19C6BB09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C72E-AFA7-49F9-B2B7-7C1A2F14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BAD-BFD0-4E86-A898-CFC279FC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5E01-3C23-4194-9194-173C108B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E4DF-1A14-4308-B2C3-4F083003DEC9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92C9-9672-4E3B-B898-856C9757DA33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610C-95E9-4632-8EEB-D9EACB68A883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217E-05A3-42CB-9AD7-1D2F1CBCAAD0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E308-0C1B-4D9C-97A6-EBE1A1992CBB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5FB7-AD7A-490B-86D6-CCA094B36008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E87C-5CF7-46CA-9BD2-EDA50060F783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3B09-A7AD-4B0E-9A9F-B263B63C41E7}" type="slidenum">
              <a:rPr b="0" lang="ru-RU" sz="1600" spc="-1" strike="noStrike">
                <a:solidFill>
                  <a:srgbClr val="434342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0360" indent="-16380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858960" indent="-1731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86E6-825D-4992-938C-87DE35F8FEC4}" type="datetime"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80BB-C6F5-4804-8051-516222CBE408}" type="slidenum">
              <a:rPr b="0" lang="ru-RU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РОБОТОТЕХНИК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В  НАЧАЛЬНОЙ ШКОЛ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250920" y="2690640"/>
            <a:ext cx="87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Прямоугольник 5"/>
          <p:cNvSpPr/>
          <p:nvPr/>
        </p:nvSpPr>
        <p:spPr>
          <a:xfrm>
            <a:off x="357120" y="4714920"/>
            <a:ext cx="878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полнила работу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байкина Татьяна Владимировна,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е бюджет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. Кузнецк, 202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5" name="Рисунок 2" descr=""/>
          <p:cNvPicPr/>
          <p:nvPr/>
        </p:nvPicPr>
        <p:blipFill>
          <a:blip r:embed="rId1"/>
          <a:stretch/>
        </p:blipFill>
        <p:spPr>
          <a:xfrm>
            <a:off x="1873080" y="1090440"/>
            <a:ext cx="55404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13" descr="3.jpg"/>
          <p:cNvPicPr/>
          <p:nvPr/>
        </p:nvPicPr>
        <p:blipFill>
          <a:blip r:embed="rId1"/>
          <a:stretch/>
        </p:blipFill>
        <p:spPr>
          <a:xfrm>
            <a:off x="6329520" y="3424320"/>
            <a:ext cx="2743200" cy="1647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6e94"/>
                </a:solidFill>
                <a:latin typeface="Arial Black"/>
              </a:rPr>
              <a:t>ПРОГРАММ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6" name="Скругленный прямоугольник 8"/>
          <p:cNvSpPr/>
          <p:nvPr/>
        </p:nvSpPr>
        <p:spPr>
          <a:xfrm>
            <a:off x="3500280" y="2857680"/>
            <a:ext cx="2143440" cy="2714400"/>
          </a:xfrm>
          <a:custGeom>
            <a:avLst/>
            <a:gdLst>
              <a:gd name="textAreaLeft" fmla="*/ 104400 w 2143440"/>
              <a:gd name="textAreaRight" fmla="*/ 2039040 w 2143440"/>
              <a:gd name="textAreaTop" fmla="*/ 104400 h 2714400"/>
              <a:gd name="textAreaBottom" fmla="*/ 2610000 h 2714400"/>
            </a:gdLst>
            <a:ahLst/>
            <a:rect l="textAreaLeft" t="textAreaTop" r="textAreaRight" b="textAreaBottom"/>
            <a:pathLst>
              <a:path w="21600" h="27353">
                <a:moveTo>
                  <a:pt x="3600" y="0"/>
                </a:moveTo>
                <a:arcTo wR="3600" hR="3600" stAng="16200000" swAng="-5400000"/>
                <a:lnTo>
                  <a:pt x="0" y="23753"/>
                </a:lnTo>
                <a:arcTo wR="3600" hR="3600" stAng="10800000" swAng="-5400000"/>
                <a:lnTo>
                  <a:pt x="18000" y="273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1dffb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вая аудитория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 от 5 лет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2571840" y="1500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8" name="Рисунок 11" descr="1.jpg"/>
          <p:cNvPicPr/>
          <p:nvPr/>
        </p:nvPicPr>
        <p:blipFill>
          <a:blip r:embed="rId2"/>
          <a:stretch/>
        </p:blipFill>
        <p:spPr>
          <a:xfrm>
            <a:off x="2928960" y="957240"/>
            <a:ext cx="3224160" cy="1828800"/>
          </a:xfrm>
          <a:prstGeom prst="rect">
            <a:avLst/>
          </a:prstGeom>
          <a:ln w="0">
            <a:noFill/>
          </a:ln>
        </p:spPr>
      </p:pic>
      <p:sp>
        <p:nvSpPr>
          <p:cNvPr id="259" name="Скругленный прямоугольник 9"/>
          <p:cNvSpPr/>
          <p:nvPr/>
        </p:nvSpPr>
        <p:spPr>
          <a:xfrm>
            <a:off x="5857920" y="928800"/>
            <a:ext cx="2928960" cy="2714400"/>
          </a:xfrm>
          <a:prstGeom prst="roundRect">
            <a:avLst>
              <a:gd name="adj" fmla="val 16667"/>
            </a:avLst>
          </a:prstGeom>
          <a:solidFill>
            <a:srgbClr val="91a7c4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о часов: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блока по 24 занятия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Рисунок 12" descr="2.jpg"/>
          <p:cNvPicPr/>
          <p:nvPr/>
        </p:nvPicPr>
        <p:blipFill>
          <a:blip r:embed="rId3"/>
          <a:stretch/>
        </p:blipFill>
        <p:spPr>
          <a:xfrm>
            <a:off x="0" y="3624120"/>
            <a:ext cx="2438280" cy="1447920"/>
          </a:xfrm>
          <a:prstGeom prst="rect">
            <a:avLst/>
          </a:prstGeom>
          <a:ln w="0">
            <a:noFill/>
          </a:ln>
        </p:spPr>
      </p:pic>
      <p:sp>
        <p:nvSpPr>
          <p:cNvPr id="261" name="Скругленный прямоугольник 7"/>
          <p:cNvSpPr/>
          <p:nvPr/>
        </p:nvSpPr>
        <p:spPr>
          <a:xfrm>
            <a:off x="357120" y="1071720"/>
            <a:ext cx="2928960" cy="2714400"/>
          </a:xfrm>
          <a:prstGeom prst="roundRect">
            <a:avLst>
              <a:gd name="adj" fmla="val 16667"/>
            </a:avLst>
          </a:prstGeom>
          <a:solidFill>
            <a:srgbClr val="f96a1b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рудование: ПК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o WeD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ор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ран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2" name="Picture 11" descr=""/>
          <p:cNvPicPr/>
          <p:nvPr/>
        </p:nvPicPr>
        <p:blipFill>
          <a:blip r:embed="rId4"/>
          <a:stretch/>
        </p:blipFill>
        <p:spPr>
          <a:xfrm>
            <a:off x="7524720" y="5300640"/>
            <a:ext cx="14270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713880" y="285480"/>
            <a:ext cx="76647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структор LEGO Education WeDo дает возможность ученикам собрать и запрограммировать простые модели LEGO через приложения в компьютере. В наборе 158 элементов, в том числе двигатель, датчики движения и положения, а также LEGO USB Hub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коммутатор). Совмещая программное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и учебное пособие,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жно выполнить 12 тематических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й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Рисунок 5" descr="http://cache.lego.com/r/education/-/media/LEGO%20Education/Home/Images/Products/WeDo/ts.20100922T104512.9580_713x380_MainProduct.png"/>
          <p:cNvPicPr/>
          <p:nvPr/>
        </p:nvPicPr>
        <p:blipFill>
          <a:blip r:embed="rId1"/>
          <a:stretch/>
        </p:blipFill>
        <p:spPr>
          <a:xfrm>
            <a:off x="4788000" y="2133720"/>
            <a:ext cx="5284800" cy="2811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2"/>
          <a:stretch/>
        </p:blipFill>
        <p:spPr>
          <a:xfrm>
            <a:off x="7524720" y="5300640"/>
            <a:ext cx="142704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06e94"/>
                </a:solidFill>
                <a:latin typeface="Arial Black"/>
              </a:rPr>
              <a:t>ТЕМАТИЧЕСКИЙ БЛОК "ЖИВОТНЫЙ МИР":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57160" y="907560"/>
            <a:ext cx="75218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нцующие птичк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езьянка-барабанщиц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олодный аллигатор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рхающая птиц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ычащий лев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кротител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йка-барабанщик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Лягушка-квакушк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ар-птиц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лшебные рыбк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нцующие утята и пингвинят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езьянки на карусел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7667640" y="5445000"/>
            <a:ext cx="106200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ПРЕДПОЛАГАЕМЫЙ РЕЗУЛЬТАТ</a:t>
            </a:r>
            <a:br>
              <a:rPr sz="2800"/>
            </a:b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ДЕТЕЙ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57160" y="1125000"/>
            <a:ext cx="457848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мышления, навыков конструирования и программирования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ворческого мышления и изобретательности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елкой моторики, внимания, аккуратности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вышения мотивации к созданию собственных разработок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иск качественного результата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ответственности при командной работе;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гры и состязания в результате в целях к мотивации к обучению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427040" cy="14205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5630760" y="1484280"/>
            <a:ext cx="31147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ПРЕДПОЛАГАЕМЫЙ РЕЗУЛЬТАТ ВЗРОСЛЫХ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56800" y="1125000"/>
            <a:ext cx="796284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меть представление: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роботах в России и мире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межпредметных связях робототехники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рамках ФГОС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перспективах развития робототехник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- о методических основах проектной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еятельност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нание основных направлений образования робототехники и основных международных робототехнических стандартах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Умение планировать виды деятельност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основными понятиями образовательной робототехники;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материальными знаниями: название деталей, моделей роботов, основами программирования.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42704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907920"/>
            <a:ext cx="914400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616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, Конструктор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ЕГО помогает детям и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зрослым воплощать в жизнь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вои идеи, строить  и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фантазировать, увлечённо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ботая и видя конечный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7" name="Picture 7" descr="G:\Camera\IMG_20141111_113151.jpg"/>
          <p:cNvPicPr/>
          <p:nvPr/>
        </p:nvPicPr>
        <p:blipFill>
          <a:blip r:embed="rId1"/>
          <a:stretch/>
        </p:blipFill>
        <p:spPr>
          <a:xfrm>
            <a:off x="5508720" y="260280"/>
            <a:ext cx="3432240" cy="45766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"/>
          <p:cNvPicPr/>
          <p:nvPr/>
        </p:nvPicPr>
        <p:blipFill>
          <a:blip r:embed="rId2"/>
          <a:stretch/>
        </p:blipFill>
        <p:spPr>
          <a:xfrm>
            <a:off x="7502400" y="5229360"/>
            <a:ext cx="1427400" cy="142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Объект 1" descr=""/>
          <p:cNvPicPr/>
          <p:nvPr/>
        </p:nvPicPr>
        <p:blipFill>
          <a:blip r:embed="rId1"/>
          <a:stretch/>
        </p:blipFill>
        <p:spPr>
          <a:xfrm>
            <a:off x="723960" y="606600"/>
            <a:ext cx="7043760" cy="44780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506e94"/>
              </a:solidFill>
              <a:latin typeface="Arial Black"/>
            </a:endParaRPr>
          </a:p>
        </p:txBody>
      </p:sp>
      <p:pic>
        <p:nvPicPr>
          <p:cNvPr id="228" name="Объект 4" descr=""/>
          <p:cNvPicPr/>
          <p:nvPr/>
        </p:nvPicPr>
        <p:blipFill>
          <a:blip r:embed="rId2"/>
          <a:stretch/>
        </p:blipFill>
        <p:spPr>
          <a:xfrm>
            <a:off x="6699240" y="5326200"/>
            <a:ext cx="24130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КТО ТАКОЙ РОБОТ?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57160" y="856800"/>
            <a:ext cx="752184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1" name="Рисунок 2" descr=""/>
          <p:cNvPicPr/>
          <p:nvPr/>
        </p:nvPicPr>
        <p:blipFill>
          <a:blip r:embed="rId1"/>
          <a:srcRect l="0" t="15107" r="0" b="0"/>
          <a:stretch/>
        </p:blipFill>
        <p:spPr>
          <a:xfrm>
            <a:off x="1363680" y="914400"/>
            <a:ext cx="6438960" cy="4098960"/>
          </a:xfrm>
          <a:prstGeom prst="rect">
            <a:avLst/>
          </a:prstGeom>
          <a:ln w="0">
            <a:noFill/>
          </a:ln>
        </p:spPr>
      </p:pic>
      <p:pic>
        <p:nvPicPr>
          <p:cNvPr id="232" name="Объект 4" descr=""/>
          <p:cNvPicPr/>
          <p:nvPr/>
        </p:nvPicPr>
        <p:blipFill>
          <a:blip r:embed="rId2"/>
          <a:stretch/>
        </p:blipFill>
        <p:spPr>
          <a:xfrm>
            <a:off x="6699240" y="5326200"/>
            <a:ext cx="24130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РОБОТЫ ЖИВОТНЫ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4" name="Объект 2" descr=""/>
          <p:cNvPicPr/>
          <p:nvPr/>
        </p:nvPicPr>
        <p:blipFill>
          <a:blip r:embed="rId1"/>
          <a:stretch/>
        </p:blipFill>
        <p:spPr>
          <a:xfrm>
            <a:off x="1117440" y="1125360"/>
            <a:ext cx="3365640" cy="1872000"/>
          </a:xfrm>
          <a:prstGeom prst="rect">
            <a:avLst/>
          </a:prstGeom>
          <a:ln w="0">
            <a:noFill/>
          </a:ln>
        </p:spPr>
      </p:pic>
      <p:pic>
        <p:nvPicPr>
          <p:cNvPr id="235" name="Объект 4" descr=""/>
          <p:cNvPicPr/>
          <p:nvPr/>
        </p:nvPicPr>
        <p:blipFill>
          <a:blip r:embed="rId2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3" descr=""/>
          <p:cNvPicPr/>
          <p:nvPr/>
        </p:nvPicPr>
        <p:blipFill>
          <a:blip r:embed="rId3"/>
          <a:srcRect l="12986" t="0" r="19290" b="0"/>
          <a:stretch/>
        </p:blipFill>
        <p:spPr>
          <a:xfrm>
            <a:off x="5402160" y="914400"/>
            <a:ext cx="3113280" cy="25858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5" descr=""/>
          <p:cNvPicPr/>
          <p:nvPr/>
        </p:nvPicPr>
        <p:blipFill>
          <a:blip r:embed="rId4"/>
          <a:srcRect l="12706" t="0" r="23621" b="8164"/>
          <a:stretch/>
        </p:blipFill>
        <p:spPr>
          <a:xfrm>
            <a:off x="684360" y="3208320"/>
            <a:ext cx="3456000" cy="31431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6" descr=""/>
          <p:cNvPicPr/>
          <p:nvPr/>
        </p:nvPicPr>
        <p:blipFill>
          <a:blip r:embed="rId5"/>
          <a:srcRect l="1962" t="22000" r="1962" b="12201"/>
          <a:stretch/>
        </p:blipFill>
        <p:spPr>
          <a:xfrm>
            <a:off x="4583160" y="3500280"/>
            <a:ext cx="42019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506e94"/>
              </a:solidFill>
              <a:latin typeface="Arial Black"/>
            </a:endParaRPr>
          </a:p>
        </p:txBody>
      </p:sp>
      <p:pic>
        <p:nvPicPr>
          <p:cNvPr id="240" name="Объект 2" descr=""/>
          <p:cNvPicPr/>
          <p:nvPr/>
        </p:nvPicPr>
        <p:blipFill>
          <a:blip r:embed="rId1"/>
          <a:stretch/>
        </p:blipFill>
        <p:spPr>
          <a:xfrm>
            <a:off x="1116000" y="7920"/>
            <a:ext cx="6699240" cy="5024520"/>
          </a:xfrm>
          <a:prstGeom prst="rect">
            <a:avLst/>
          </a:prstGeom>
          <a:ln w="0">
            <a:noFill/>
          </a:ln>
        </p:spPr>
      </p:pic>
      <p:pic>
        <p:nvPicPr>
          <p:cNvPr id="241" name="Объект 4" descr=""/>
          <p:cNvPicPr/>
          <p:nvPr/>
        </p:nvPicPr>
        <p:blipFill>
          <a:blip r:embed="rId2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АЛГОРИТМ РАБОТЫ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57160" y="907920"/>
            <a:ext cx="752184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4" name="Объект 4" descr=""/>
          <p:cNvPicPr/>
          <p:nvPr/>
        </p:nvPicPr>
        <p:blipFill>
          <a:blip r:embed="rId1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2" descr=""/>
          <p:cNvPicPr/>
          <p:nvPr/>
        </p:nvPicPr>
        <p:blipFill>
          <a:blip r:embed="rId2"/>
          <a:srcRect l="0" t="0" r="0" b="13250"/>
          <a:stretch/>
        </p:blipFill>
        <p:spPr>
          <a:xfrm>
            <a:off x="1751040" y="907920"/>
            <a:ext cx="48020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57160" y="2286000"/>
            <a:ext cx="77155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2060"/>
                </a:solidFill>
                <a:latin typeface="Arial Black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7" name="Объект 4" descr=""/>
          <p:cNvPicPr/>
          <p:nvPr/>
        </p:nvPicPr>
        <p:blipFill>
          <a:blip r:embed="rId1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6e94"/>
                </a:solidFill>
                <a:latin typeface="Arial Black"/>
              </a:rPr>
              <a:t>ИНТЕРГАЦИЯ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57160" y="1699920"/>
            <a:ext cx="7521840" cy="34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нструирование;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атематика;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речи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0" name="Picture 4" descr="C:\Users\KOTYA\Desktop\1394011927_0848.1000x800.jpeg"/>
          <p:cNvPicPr/>
          <p:nvPr/>
        </p:nvPicPr>
        <p:blipFill>
          <a:blip r:embed="rId1"/>
          <a:stretch/>
        </p:blipFill>
        <p:spPr>
          <a:xfrm>
            <a:off x="4572000" y="1484280"/>
            <a:ext cx="4321080" cy="3219480"/>
          </a:xfrm>
          <a:prstGeom prst="rect">
            <a:avLst/>
          </a:prstGeom>
          <a:ln w="0">
            <a:noFill/>
          </a:ln>
        </p:spPr>
      </p:pic>
      <p:pic>
        <p:nvPicPr>
          <p:cNvPr id="251" name="Объект 4" descr=""/>
          <p:cNvPicPr/>
          <p:nvPr/>
        </p:nvPicPr>
        <p:blipFill>
          <a:blip r:embed="rId2"/>
          <a:stretch/>
        </p:blipFill>
        <p:spPr>
          <a:xfrm>
            <a:off x="6588000" y="5354640"/>
            <a:ext cx="241164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26920" y="260280"/>
            <a:ext cx="752184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Данный конструктор позволяет детям работать в качестве юных исследователей, инженеров, математиков. Ребята собирают и программируют действующие модели, а затем используют их для выполнения задач, по сути являющихся упражнениями из образовательных областей: социально-коммуникативные, познавательное и речевое развитие.</a:t>
            </a:r>
            <a:endParaRPr b="1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7524720" y="5229360"/>
            <a:ext cx="142704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3:21:41Z</dcterms:created>
  <dc:creator>1</dc:creator>
  <dc:description/>
  <dc:language>en-US</dc:language>
  <cp:lastModifiedBy>Пользователь</cp:lastModifiedBy>
  <dcterms:modified xsi:type="dcterms:W3CDTF">2020-08-25T11:35:40Z</dcterms:modified>
  <cp:revision>60</cp:revision>
  <dc:subject/>
  <dc:title>Реализация общеинтеллектуального направления на внеурочных занятиях с помощью конструктора  lego education wedo</dc:title>
</cp:coreProperties>
</file>